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CA1-CEFE-466A-A2E7-76C92AFA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9A8-8D12-4764-93AC-93280C2A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18E-EF54-484E-A579-3CA83869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3AB-AE86-4248-B07A-D1C8DAD9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FBFC-F3E6-4E27-9975-AA5DC119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3552-C641-4EBF-BE1E-B05C4F86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DBFB-8FE2-41E7-95D3-EACC376A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4150-FFDE-424E-9235-DF2A2CBE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E0E5-F079-4D55-AC7D-C53DDC22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00E2-F5F7-47F9-8A8B-A7A071E9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D90B-0D65-4E65-B468-38E15F9F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F91-2073-48B4-8BDA-1D783285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62D0-5D31-48DA-B751-624D5996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05A2-27BF-45B6-A581-6E7A2DD3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603A-98C9-4BEE-973C-85A693C3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D47E-D1AF-4B98-AB26-C938F86A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525D-68B1-46EE-8550-8A58FBBA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8D751-0135-4535-8B01-B7EAE887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19CE7-005F-4DC3-A8BB-A6DA74F0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6E91D-A620-4BAD-851A-837B2EF7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A5A39-16CA-46FE-9741-F792CB81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C5DF5-F9C6-46F6-8C9D-67312E9E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1A5D-DFC5-4C92-A8A1-F0985055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31332-FD85-4E03-8F82-C5183E45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72587-B5DF-401A-B77E-D4F4D137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FFCAC-DA02-41F5-A19A-71075B16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32F51-3ED7-4883-97C7-10E50870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813A6-771F-42BE-BFAD-09EAF2EF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842D-AE0B-4888-88A2-A8FC9BF4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0E26F-20D3-4A7A-B2C0-A43C307B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BB559-6FC0-469B-B086-22F0124C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28EDC-CB08-42EC-A1E6-F4402B01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047B-B971-4C12-81D3-2EA31362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135-21CA-4170-B51D-410302A9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25CA5-D2EE-45D3-805B-6C3ADC45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326F0-58A7-4237-8552-E8F88130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765B5-A888-4E0A-8A5C-7D5E42BA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4055E-7B2A-4ABD-AD58-52BBB33F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DAB4B-26F2-4968-AB68-0ECCB3E5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FAD12-F90B-4D72-9AF4-A5FCF18F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8F0DB-B57E-4DB3-93D6-BFC0C918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32860-7EE9-4D19-9B3E-79008A32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EB761-21B4-49CF-AEFD-2E15340F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07C6D-68E6-4CC0-81CE-D7A6DB42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1F0-51B4-42A0-A5EE-C10843AA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EE2F9-55F1-40CD-84A0-7244ADFC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A6E9C-4ADA-4B7C-BBB2-71B0EF6E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73335-63A1-41F4-827B-C1C59531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FF5B0-07FD-48E5-9EB4-452E5151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11208-8195-4040-8AED-0730E672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11F05-58CA-4D29-A17E-542BA452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7E507-124E-4DC3-A54D-B0B36EFA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8AD47-A265-4DA6-A7F7-0174DB54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17A27-5564-4859-A69E-6F8E5FAD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75697-11E6-4927-807C-F513000E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74B-0522-4869-A564-428D8B1C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6389D-5BD9-4F96-BC53-34C4FFB5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58BB6-75D9-493E-ACB3-23ED19D8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0077A-9DF2-46C1-B510-1AA9C648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04C6B-5F07-4639-854F-603F18CC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624C5-56C5-4B84-B66B-C8405CAA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AFF99-990D-4E63-A315-D1779F8A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62231-1DA0-47B6-967F-E59EEB66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B6AFF-6E09-4DC2-BF20-2D1FC1FF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8579F-945E-454E-BEA1-0C6BEDFE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162C7-77CC-4799-BC4D-FC44BEFA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27C-EBF3-4E3D-B83B-A8438158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8BB31-3175-49E2-89EC-842A431B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BEA07-883A-4A48-94C4-B4F45CA9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D7CE0-8BD1-473F-A439-770697B5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5E569-4278-4D6C-A4F1-5DD082B4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F2DC2-622B-424D-B7C8-E04FE13F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BD219-8E2B-41DA-B5D4-A326B3C6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DCFD4-5F82-42FC-BA67-C3DE300B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9D2A6-9A71-4C46-BB0D-2DBEF063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5151A-4448-4B17-B010-14E43964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59709-AF1A-41D8-B014-5A2E2EE1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29D-B955-42EC-859C-DFD9FB63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1EDE2-78E8-4ECD-9D83-F94E30CC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324E5-0F3D-4873-8D17-02E871DA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69194-9087-425D-BF1F-6AF4B8A4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C95DF-89ED-426F-9C11-10E0C470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1D76D-C92C-4D8C-8B5D-1813ACA6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49E-64A4-4747-B2E4-F9B96AE7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C839-7C4D-4044-BA91-6FAE03E8E2BB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90EE-84F9-4F11-B380-559A68A15CF0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597A-1C90-4CAC-BE51-98908715A6B2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C265-EFDE-424B-95B9-A2B13FACC18F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7952-A75E-4826-B250-B24D579AB688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7C2D-7FCF-4B3E-9674-686C8BEF6105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75F0-C309-4D47-B2E7-849A970B17A7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4073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Муниципальное казенное дошкольное образовательное учреждение </a:t>
            </a:r>
            <a:br>
              <a:rPr sz="1400"/>
            </a:br>
            <a:r>
              <a:rPr b="1" lang="en-US" sz="1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детский сад «Родничок»</a:t>
            </a:r>
            <a:br>
              <a:rPr sz="1400"/>
            </a:br>
            <a:r>
              <a:rPr b="1" lang="en-US" sz="1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п.Коренево</a:t>
            </a:r>
            <a:endParaRPr b="0" lang="en-US" sz="14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19" name="Подзаголовок 2" descr=""/>
          <p:cNvPicPr/>
          <p:nvPr/>
        </p:nvPicPr>
        <p:blipFill>
          <a:blip r:embed="rId2"/>
          <a:stretch/>
        </p:blipFill>
        <p:spPr>
          <a:xfrm>
            <a:off x="1403280" y="1628640"/>
            <a:ext cx="7461360" cy="165276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3"/>
          <p:cNvSpPr/>
          <p:nvPr/>
        </p:nvSpPr>
        <p:spPr>
          <a:xfrm>
            <a:off x="1071720" y="3141720"/>
            <a:ext cx="80722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Подготовила: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Волкова Н.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7" descr="C:\Users\Виталя\Desktop\описание лэпбука\фото\image-0-02-05-db405a034cfdb72489b3d46e1d2f41ac8beef86c9ede6b725b2c4dfe7c893ff1-V.jpg"/>
          <p:cNvPicPr/>
          <p:nvPr/>
        </p:nvPicPr>
        <p:blipFill>
          <a:blip r:embed="rId2"/>
          <a:stretch/>
        </p:blipFill>
        <p:spPr>
          <a:xfrm>
            <a:off x="2484360" y="260280"/>
            <a:ext cx="4489560" cy="640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40" name="Picture 2" descr="E:\DSC_0009.JPG"/>
          <p:cNvPicPr/>
          <p:nvPr/>
        </p:nvPicPr>
        <p:blipFill>
          <a:blip r:embed="rId2"/>
          <a:stretch/>
        </p:blipFill>
        <p:spPr>
          <a:xfrm>
            <a:off x="1187280" y="333360"/>
            <a:ext cx="76932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187280" y="691920"/>
            <a:ext cx="734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Лепбук отвечает требованиям ФГОС ДО </a:t>
            </a:r>
            <a:r>
              <a:rPr b="0" lang="ru-RU" sz="20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к предметно-развивающей среде: информативен; полифункционален: способствует развитию творчества, воображения. Пригоден к использованию одновременно группой детей (в том числе с участием взрослого как играющего партнера); обладает дидактическими свойствами; является средством художественно-эстетического развития ребенка, приобщает его к миру искусства; вариативной (есть несколько вариантов использования каждой его части); его структура и содержание доступно детям дошкольного возраста; обеспечивает игровую, познавательную, исследовательскую и творческую активность всех воспитанник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C:\Users\Ольга\Desktop\Лэпбуки Младш гр\P1070151.JPG"/>
          <p:cNvPicPr/>
          <p:nvPr/>
        </p:nvPicPr>
        <p:blipFill>
          <a:blip r:embed="rId2"/>
          <a:stretch/>
        </p:blipFill>
        <p:spPr>
          <a:xfrm>
            <a:off x="1187280" y="404640"/>
            <a:ext cx="7596360" cy="576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2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2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232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0b3d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750b3d"/>
                </a:solidFill>
                <a:latin typeface="Times New Roman"/>
                <a:ea typeface="Times New Roman"/>
              </a:rPr>
              <a:t>Лэпбук</a:t>
            </a:r>
            <a:br>
              <a:rPr sz="2400"/>
            </a:br>
            <a:r>
              <a:rPr b="1" i="1" lang="ru-RU" sz="2400" spc="-1" strike="noStrike">
                <a:solidFill>
                  <a:srgbClr val="750b3d"/>
                </a:solidFill>
                <a:latin typeface="Times New Roman"/>
                <a:ea typeface="Times New Roman"/>
              </a:rPr>
              <a:t> – вид совместной                        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750b3d"/>
                </a:solidFill>
                <a:latin typeface="Times New Roman"/>
                <a:ea typeface="Times New Roman"/>
              </a:rPr>
              <a:t>   деятельности взрослого и ребенка</a:t>
            </a:r>
            <a:br>
              <a:rPr sz="2400"/>
            </a:br>
            <a:endParaRPr b="0" lang="en-US" sz="24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28480" y="17856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лэпбука - эффективное средство для привлечения родителей к сотрудничеству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и обеспечивают поддержку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806400" indent="-285840">
              <a:lnSpc>
                <a:spcPct val="100000"/>
              </a:lnSpc>
              <a:spcBef>
                <a:spcPts val="400"/>
              </a:spcBef>
              <a:buClr>
                <a:srgbClr val="ea15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онную (экскурсии, походы)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2" marL="806400" indent="-285840">
              <a:lnSpc>
                <a:spcPct val="100000"/>
              </a:lnSpc>
              <a:spcBef>
                <a:spcPts val="400"/>
              </a:spcBef>
              <a:buClr>
                <a:srgbClr val="ea15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ическую (фото, видео)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2" marL="806400" indent="-285840">
              <a:lnSpc>
                <a:spcPct val="100000"/>
              </a:lnSpc>
              <a:spcBef>
                <a:spcPts val="400"/>
              </a:spcBef>
              <a:buClr>
                <a:srgbClr val="ea15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ую (сбор информации для лэпбука)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2" marL="806400" indent="-285840">
              <a:lnSpc>
                <a:spcPct val="100000"/>
              </a:lnSpc>
              <a:spcBef>
                <a:spcPts val="300"/>
              </a:spcBef>
              <a:buClr>
                <a:srgbClr val="ea15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тивационную (поддерживание интереса,    уверенности в успехе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50b3d"/>
                </a:solidFill>
                <a:latin typeface="Times New Roman"/>
                <a:ea typeface="Times New Roman"/>
              </a:rPr>
              <a:t>Форма работы с родителями</a:t>
            </a:r>
            <a:endParaRPr b="0" lang="en-US" sz="24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46" name="Picture 2" descr="C:\Users\Ольга\Desktop\Круглосут Лэпбуки\Лэпбук 1.JPG"/>
          <p:cNvPicPr/>
          <p:nvPr/>
        </p:nvPicPr>
        <p:blipFill>
          <a:blip r:embed="rId2"/>
          <a:stretch/>
        </p:blipFill>
        <p:spPr>
          <a:xfrm>
            <a:off x="1332000" y="1052640"/>
            <a:ext cx="7321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186920" y="620280"/>
            <a:ext cx="7272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федеральном государственном образовательном стандарте дошкольного образования сформулированы требования по взаимодействию Организации с родителями. Подчеркнуто, что одним из принципов дошкольного образования является сотрудничество Организации с семьёй. Формы работы с родителями постоянно меняются. Все шире используются новые, активные формы работы с родителями, позволяющие вовлечь родителей в процесс обучения, развития и познания собственного ребенка. Одной из таких форм работы с родителями является лэпбук. При этом лэпбук — это не просто поделка. Это заключительный этап самостоятельной исследовательской работы, которую ребенок совместно со взрослыми проделал в ходе изучения данной тем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50b3d"/>
                </a:solidFill>
                <a:latin typeface="Times New Roman"/>
                <a:ea typeface="Times New Roman"/>
              </a:rPr>
              <a:t>Форма работы с родителями</a:t>
            </a:r>
            <a:endParaRPr b="0" lang="en-US" sz="24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49" name="Picture 2" descr="C:\Users\Ольга\Desktop\Круглосут Лэпбуки\Лэлбук 5.JPG"/>
          <p:cNvPicPr/>
          <p:nvPr/>
        </p:nvPicPr>
        <p:blipFill>
          <a:blip r:embed="rId2"/>
          <a:stretch/>
        </p:blipFill>
        <p:spPr>
          <a:xfrm>
            <a:off x="1258920" y="1413000"/>
            <a:ext cx="3857760" cy="3128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Ольга\Desktop\Круглосут Лэпбуки\Лэпбук 9.JPG"/>
          <p:cNvPicPr/>
          <p:nvPr/>
        </p:nvPicPr>
        <p:blipFill>
          <a:blip r:embed="rId3"/>
          <a:stretch/>
        </p:blipFill>
        <p:spPr>
          <a:xfrm>
            <a:off x="4932360" y="3429000"/>
            <a:ext cx="39290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5" descr="http://www.maam.ru/upload/blogs/detsad-384905-1487174207.jpg"/>
          <p:cNvPicPr/>
          <p:nvPr/>
        </p:nvPicPr>
        <p:blipFill>
          <a:blip r:embed="rId2"/>
          <a:stretch/>
        </p:blipFill>
        <p:spPr>
          <a:xfrm>
            <a:off x="1116000" y="1197000"/>
            <a:ext cx="7777080" cy="431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0b3d"/>
                </a:solidFill>
                <a:latin typeface="Times New Roman"/>
                <a:ea typeface="Times New Roman"/>
              </a:rPr>
              <a:t>Лэпбук </a:t>
            </a:r>
            <a:br>
              <a:rPr sz="2800"/>
            </a:br>
            <a:r>
              <a:rPr b="1" i="1" lang="ru-RU" sz="2800" spc="-1" strike="noStrike">
                <a:solidFill>
                  <a:srgbClr val="750b3d"/>
                </a:solidFill>
                <a:latin typeface="Times New Roman"/>
                <a:ea typeface="Times New Roman"/>
              </a:rPr>
              <a:t>отвечает основным тезисам партнерской деятельности взрослого с детьми</a:t>
            </a:r>
            <a:endParaRPr b="0" lang="en-US" sz="28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600" y="1844280"/>
            <a:ext cx="72406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ключенность воспитателя в деятельность наравне с детьми;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добровольное присоединение дошкольников к деятельности (без психического и дисциплинарного принуждения);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свободное общение и перемещение детей во время деятельности (при соответствии организации рабочего пространства);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ткрытый временной конец деятельности (каждый работает в своем темпе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2700360" y="189000"/>
            <a:ext cx="4524480" cy="640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2"/>
          <a:stretch/>
        </p:blipFill>
        <p:spPr>
          <a:xfrm>
            <a:off x="1352520" y="281160"/>
            <a:ext cx="7510320" cy="11509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1428840" y="571680"/>
            <a:ext cx="720072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Лэпбук – активизирует у детей интерес к позна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 Появляется возможность проявить себя каждому ребёнку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 Помогает детям лучше понять и запомнить информацию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 Лэпбук – позволяет сохранить собранный материал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Это просто интересное и творческое занят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Рисунок 3" descr="https://ds04.infourok.ru/uploads/ex/06ba/00062139-a66e1dbc/hello_html_7fb8365e.jpg"/>
          <p:cNvPicPr/>
          <p:nvPr/>
        </p:nvPicPr>
        <p:blipFill>
          <a:blip r:embed="rId3"/>
          <a:stretch/>
        </p:blipFill>
        <p:spPr>
          <a:xfrm>
            <a:off x="2268360" y="3213000"/>
            <a:ext cx="59407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0b3d"/>
                </a:solidFill>
                <a:latin typeface="Times New Roman"/>
                <a:ea typeface="Times New Roman"/>
              </a:rPr>
              <a:t>Преимущества    лэпбука</a:t>
            </a:r>
            <a:endParaRPr b="0" lang="en-US" sz="28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85600" y="1142640"/>
            <a:ext cx="699444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ебенок самостоятельно собирает  нужную информацию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буждает интерес у детей к познавательному развитию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Может разнообразить занятие или совместную деятельность со взрослы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Развивает креативность и творческое мышление, речь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Объединяет детей для увлекательного и полезного занятия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2" descr="C:\Users\Ольга\Desktop\ЛЭПБУКИ 1\DSC_0346.JPG"/>
          <p:cNvPicPr/>
          <p:nvPr/>
        </p:nvPicPr>
        <p:blipFill>
          <a:blip r:embed="rId2"/>
          <a:stretch/>
        </p:blipFill>
        <p:spPr>
          <a:xfrm>
            <a:off x="3348000" y="3500280"/>
            <a:ext cx="36972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856880" y="213840"/>
            <a:ext cx="65264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лэпбуком достаточно разнообразна, создает условия для совершения самостоятельных, пусть и незначительных пока, открытий. Очень важно создать для каждого ребенка ситуацию успеха и показать значимость вклада каждого ребенка в большое общее дел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2" descr="C:\Users\Ольга\Desktop\ЛЭПБУКИ 1\DSC_0380.JPG"/>
          <p:cNvPicPr/>
          <p:nvPr/>
        </p:nvPicPr>
        <p:blipFill>
          <a:blip r:embed="rId2"/>
          <a:stretch/>
        </p:blipFill>
        <p:spPr>
          <a:xfrm>
            <a:off x="2987640" y="2492280"/>
            <a:ext cx="45370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285560" y="214200"/>
            <a:ext cx="764388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d62aca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750b3d"/>
                </a:solidFill>
                <a:latin typeface="Times New Roman"/>
                <a:ea typeface="Times New Roman"/>
              </a:rPr>
              <a:t>Лэпбук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ет возможность для  позитивной социализа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чностного развит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я инициативы и творческих возможносте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основе сотрудничества со     взрослыми и сверстник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2" descr="C:\Users\Ольга\Desktop\ЛЭПБУКИ 1\DSC_0395.JPG"/>
          <p:cNvPicPr/>
          <p:nvPr/>
        </p:nvPicPr>
        <p:blipFill>
          <a:blip r:embed="rId2"/>
          <a:stretch/>
        </p:blipFill>
        <p:spPr>
          <a:xfrm>
            <a:off x="3203640" y="3357720"/>
            <a:ext cx="38718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835280" y="1125000"/>
            <a:ext cx="638496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750b3d"/>
                </a:solidFill>
                <a:latin typeface="Times New Roman"/>
                <a:ea typeface="Times New Roman"/>
              </a:rPr>
              <a:t>Спасибо за внимание</a:t>
            </a:r>
            <a:r>
              <a:rPr b="1" lang="en-US" sz="7200" spc="-1" strike="noStrike">
                <a:solidFill>
                  <a:srgbClr val="750b3d"/>
                </a:solidFill>
                <a:latin typeface="Times New Roman"/>
                <a:ea typeface="Times New Roman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857240" y="1142640"/>
            <a:ext cx="64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едеральный государственный стандарт дошкольного образования 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ГОС ДО)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ориентирует нас, педагогов, на создание благоприятных условий для развития детей в соответствии с их возрастными и индивидуальными особенностями и склонностями, развития способностей и творческого потенциала каждого ребенка как субъекта отношений с самим собой, другими детьми, взрослыми и окружающим мир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24" name="Picture 2" descr="E:\DSC_0002.JPG"/>
          <p:cNvPicPr/>
          <p:nvPr/>
        </p:nvPicPr>
        <p:blipFill>
          <a:blip r:embed="rId2"/>
          <a:stretch/>
        </p:blipFill>
        <p:spPr>
          <a:xfrm>
            <a:off x="1285920" y="285840"/>
            <a:ext cx="76438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такое лэпбук?</a:t>
            </a:r>
            <a:br>
              <a:rPr sz="2400"/>
            </a:br>
            <a:br>
              <a:rPr sz="4900"/>
            </a:br>
            <a:endParaRPr b="0" lang="en-US" sz="32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571760" y="713880"/>
            <a:ext cx="69292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859320" indent="-221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859320" indent="-221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859320" indent="-2214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2a5"/>
                </a:solidFill>
                <a:latin typeface="Times New Roman"/>
                <a:ea typeface="Times New Roman"/>
              </a:rPr>
              <a:t>Лэпбук - интерактивная,  тематическая папка</a:t>
            </a:r>
            <a:br>
              <a:rPr sz="2000"/>
            </a:br>
            <a:r>
              <a:rPr b="1" i="1" lang="ru-RU" sz="20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750b3d"/>
                </a:solidFill>
                <a:latin typeface="Times New Roman"/>
                <a:ea typeface="Times New Roman"/>
              </a:rPr>
              <a:t>Лэпбук – сравнительно новое средство обуч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20280" indent="-22932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0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Впервые создавать лэпбуки начали американцы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859320" indent="-2214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переводе означает- наколенная книг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5" descr="C:\Users\Виталя\Desktop\описание лэпбука\фото\image-0-02-05-4457d944906e351ec94ae1b1a22731f4281317e7aee28b1ab41393825307ce1c-V.jpg"/>
          <p:cNvPicPr/>
          <p:nvPr/>
        </p:nvPicPr>
        <p:blipFill>
          <a:blip r:embed="rId2"/>
          <a:stretch/>
        </p:blipFill>
        <p:spPr>
          <a:xfrm>
            <a:off x="1258920" y="3500280"/>
            <a:ext cx="264312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8" name="Picture 4" descr="C:\Users\Виталя\Desktop\описание лэпбука\фото\image-0-02-05-3098b4ec0842eff29004142cade155a2baa71a9a6f851fb6924ee29c3764c4c4-V.jpg"/>
          <p:cNvPicPr/>
          <p:nvPr/>
        </p:nvPicPr>
        <p:blipFill>
          <a:blip r:embed="rId3"/>
          <a:stretch/>
        </p:blipFill>
        <p:spPr>
          <a:xfrm>
            <a:off x="4067280" y="3500280"/>
            <a:ext cx="2428920" cy="317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9" name="Picture 6" descr="C:\Users\Виталя\Desktop\описание лэпбука\фото\image-0-02-05-991054b701fbcc668bca39e73ac2c1dc6acceb1a0e32f10709b5f0bf223501ab-V.jpg"/>
          <p:cNvPicPr/>
          <p:nvPr/>
        </p:nvPicPr>
        <p:blipFill>
          <a:blip r:embed="rId4"/>
          <a:stretch/>
        </p:blipFill>
        <p:spPr>
          <a:xfrm>
            <a:off x="6659640" y="3500280"/>
            <a:ext cx="221436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31" name="Picture 2" descr="C:\Users\Ольга\Desktop\ЛЭПБУКИ 1\DSC_0345.JPG"/>
          <p:cNvPicPr/>
          <p:nvPr/>
        </p:nvPicPr>
        <p:blipFill>
          <a:blip r:embed="rId2"/>
          <a:stretch/>
        </p:blipFill>
        <p:spPr>
          <a:xfrm>
            <a:off x="1403280" y="333360"/>
            <a:ext cx="7443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571400" y="571680"/>
            <a:ext cx="678492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0b3d"/>
                </a:solidFill>
                <a:latin typeface="Times New Roman"/>
                <a:ea typeface="Times New Roman"/>
              </a:rPr>
              <a:t>Лэпбук обеспечивает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роение образовательной деятельности на основе взаимодействия взрослых с детьми, ориентированного на интересы и возможности каждого ребенк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любознательности, познавательной мотивации и образовательной активност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воображения, творческой активности и инициативы, в том числе речево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ь выбора детьми материалов, видов активности, участников совместной деятельности и общ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условий для участия родителей в образо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E:\щкамдит.JPG"/>
          <p:cNvPicPr/>
          <p:nvPr/>
        </p:nvPicPr>
        <p:blipFill>
          <a:blip r:embed="rId2"/>
          <a:stretch/>
        </p:blipFill>
        <p:spPr>
          <a:xfrm>
            <a:off x="1116000" y="260280"/>
            <a:ext cx="3714840" cy="303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4" name="Picture 2" descr=""/>
          <p:cNvPicPr/>
          <p:nvPr/>
        </p:nvPicPr>
        <p:blipFill>
          <a:blip r:embed="rId3"/>
          <a:stretch/>
        </p:blipFill>
        <p:spPr>
          <a:xfrm>
            <a:off x="1116000" y="3500280"/>
            <a:ext cx="3835440" cy="2876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5" name="Picture 2" descr="http://img-fotki.yandex.ru/get/9167/158094028.5/0_dfef3_514f867e_XL.jpg"/>
          <p:cNvPicPr/>
          <p:nvPr/>
        </p:nvPicPr>
        <p:blipFill>
          <a:blip r:embed="rId4"/>
          <a:stretch/>
        </p:blipFill>
        <p:spPr>
          <a:xfrm>
            <a:off x="5003640" y="260280"/>
            <a:ext cx="3822840" cy="300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6" name="Picture 4" descr="http://4.bp.blogspot.com/-psbdBQVDc9M/UcLzNjE_lrI/AAAAAAAAWtc/p7y3O5sVgiY/s640/20.06.2013+13-23-42_0095.JPG"/>
          <p:cNvPicPr/>
          <p:nvPr/>
        </p:nvPicPr>
        <p:blipFill>
          <a:blip r:embed="rId5"/>
          <a:stretch/>
        </p:blipFill>
        <p:spPr>
          <a:xfrm>
            <a:off x="5148360" y="3500280"/>
            <a:ext cx="3714480" cy="285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042920" y="404640"/>
            <a:ext cx="7850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50b3d"/>
                </a:solidFill>
                <a:latin typeface="Times New Roman"/>
                <a:ea typeface="Times New Roman"/>
              </a:rPr>
              <a:t>Зачем нужен лэпбук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 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н помогает ребенку по своему желанию организовать информацию по изучаемой теме и лучше понять и запомнить материал (особенно если  ребенок визуал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   Это отличный способ для повторения пройденного.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любое удобное время ребенок просто открывает лэпбук и с радостью повторяет пройденное, рассматривая сделанную своими же руками книжк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бенок научится самостоятельно собирать и организовывать информацию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Лэпбук хорошо под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одит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для занятий в группах, где одновременно обучаются дети разных возрастов.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ожно выбрать задания под силу каждому (для малышей – кармашки с карточками или фигурками животных, например, а старшим детям – задания, подразумевающие умение писать и т.д.) и сделать такую коллективную книжку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.  Создание   лэпбука является  одним  из видов совместной деятельности взрослого и детей.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 может быть еще и формой представления итогов проекта или тематической неде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7T07:15:31Z</dcterms:created>
  <dc:creator>Ольга</dc:creator>
  <dc:description/>
  <dc:language>en-US</dc:language>
  <cp:lastModifiedBy>user</cp:lastModifiedBy>
  <cp:lastPrinted>2016-11-01T07:49:51Z</cp:lastPrinted>
  <dcterms:modified xsi:type="dcterms:W3CDTF">2019-02-16T18:13:11Z</dcterms:modified>
  <cp:revision>92</cp:revision>
  <dc:subject/>
  <dc:title>Муниципальное казенное общеобразовательное учреждение  Козловская основная общеобразовательная школа, дошкольная ступень образования  Бутурлиновского муниципального района Воронежской области</dc:title>
</cp:coreProperties>
</file>